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14A-FF81-4B1F-8BB2-DF196CAE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7CA-8E3C-46AF-B060-5C6D805E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51A-F038-423E-B8DB-BB7E31CE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304-3F3C-4248-9600-2DEFEE27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AB86-BE83-4FD3-B41A-0E2771DB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8F97-302B-4A5D-B8D1-EA2CCB17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8685-B341-402F-AB56-B718B512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B37C-9D39-4634-86AC-A426867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2F64-B25F-4EB2-A8CB-FFA4229E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0BCA-FDCE-41B9-A354-052EDFC9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7AF9-2D94-45DC-BC71-F442D1B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143-B6EE-4DDC-92EC-CDCBC7D6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2053-7215-42B8-A893-BAB48DE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F947-500F-4644-9A7A-0FFD79DA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F7AA-CCF7-473D-90E6-08237D1A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BFD2-C87C-453A-999B-40155564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36EC-BF24-4141-AEA6-B316B255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51E-9096-4FEF-A3CC-94A2527D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45B-CE56-4F69-A614-6BEDBF00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CA4-8297-409B-9538-6361C644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7C0-79B7-4235-8A11-F1EE6F7D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208-974A-4B42-A576-DA23B3B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15F-C8B5-47E4-AAD5-D43446B2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AF1-031F-43DB-903A-3BF0E73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DC13-0B25-4CB5-BD2C-4229509D9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6A06-5B72-4C4F-B6D7-95D445EBC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685800" y="1523880"/>
          <a:ext cx="777564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564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762120" y="15238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286000" y="1752480"/>
            <a:ext cx="1447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ogressiv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09880" y="1523880"/>
            <a:ext cx="1752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mendment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Refor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10080" y="16765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87680" y="1676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94680" y="3168720"/>
            <a:ext cx="66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ll nations agree to let oth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ade with China is called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91080" y="316872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pen Door Poli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222560" y="3124080"/>
            <a:ext cx="59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gressive Movement l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any y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116600" y="320040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1890-192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91440" y="3168720"/>
            <a:ext cx="53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gressives were from t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clas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3736080" y="335268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dle Cl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892880" y="3168720"/>
            <a:ext cx="55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journalists wrote ab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blems of Society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3659400" y="32004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ckrak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95400" y="3124080"/>
            <a:ext cx="726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articular Muckraker wrote ab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vernment corru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660840" y="32767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da Tarb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892880" y="3168720"/>
            <a:ext cx="56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conomic and politic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mination of a strong 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a weak nation is ca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91800" y="3168720"/>
            <a:ext cx="39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rote the 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Jungl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279240" y="327672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pton Sincl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071360" y="2895480"/>
            <a:ext cx="59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made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rect election of senators la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218400" y="320040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376640" y="3048120"/>
            <a:ext cx="652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gave the w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ight to vot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23120" y="320040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10160" y="3200400"/>
            <a:ext cx="58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llows citizens to remo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lected official from offi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3431880" y="32767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070280" y="3048120"/>
            <a:ext cx="43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llows citizens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e legis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2594160" y="327672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tia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822760" y="32004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i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842400" y="281952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llows citizens to vote on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907640" y="320040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ferend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2520" y="3168720"/>
            <a:ext cx="574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osevelt took over when t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sident was assassin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973960" y="32767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cKinl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993960" y="2971800"/>
            <a:ext cx="68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Roosevelt’s famous quo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071000" y="3200400"/>
            <a:ext cx="70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ak Softly and Carry a Big Stick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8360" y="3200400"/>
            <a:ext cx="62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Roosevelts nickna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3126240" y="32004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st Bu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993600" y="2895480"/>
            <a:ext cx="49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ICC form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gul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660120" y="335268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lroa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299960" y="3124080"/>
            <a:ext cx="703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ain resource from Cub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interested the United St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223280" y="29718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name of Roosevelt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form packag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050280" y="327672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quare D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536760" y="2819520"/>
            <a:ext cx="66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Taft became the Presiden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also the Secretary of 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3888360" y="3200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222200" y="2971800"/>
            <a:ext cx="539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ok “The Jungle” w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out what c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t Packing Indust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907640" y="32004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c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4320" y="3168720"/>
            <a:ext cx="49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ariff actually rai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xes on goo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3046680" y="3200400"/>
            <a:ext cx="24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e-Aldr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223640" y="3124080"/>
            <a:ext cx="72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1905 the US Forest Comm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ed save this many acres of fore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355560" y="32767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811680" y="32767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222920" y="3124080"/>
            <a:ext cx="580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resident was concer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the environ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4117320" y="32004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oseve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143000" y="25909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year di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al miners go on strik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428640" y="304812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919440" y="3124080"/>
            <a:ext cx="728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idea that English-speaking n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superior to other nations is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0720" y="3168720"/>
            <a:ext cx="28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glo-Saxo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299600" y="2743200"/>
            <a:ext cx="694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ers who exaggerated or made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ries to attract readers is ca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583800" y="3200400"/>
            <a:ext cx="37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llow Journalis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acerdote, Kevin R.</cp:lastModifiedBy>
  <dcterms:modified xsi:type="dcterms:W3CDTF">2015-12-14T13:13:51Z</dcterms:modified>
  <cp:revision>50</cp:revision>
  <dc:subject/>
  <dc:title>Jeopardy</dc:title>
</cp:coreProperties>
</file>